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EE80-E2C0-4225-9E08-10B8BF0BF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6C5D-7A6A-4C53-A2CE-3F8C8222F5E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91BB2-AB02-44A8-BA76-D0E84CA0739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CD99A-B300-47C5-89A3-A1EC6C71038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9FBEA-7571-46D7-8135-71B27CCB222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F3B36-EE4A-4018-9F18-7C1F490B59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04FF-E3F3-4F10-8A1F-452606D711E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21B1B-E78E-4C07-B734-4A7325C8053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E1A67-D9DC-4BD0-AA66-79FA4F2B28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C17C6-0CFC-48E8-9C2B-652FF74636E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DF200-2310-4F74-97D0-D8531E86E42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15A9F-C429-4BD7-BFA7-7BD5860BF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16E3-9624-4A7E-85C9-893552D569E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2E69B-C9B7-4F44-B29D-4F68047DE6B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83E543-6073-4460-B6B6-4C643E055F9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FA248-B61A-4378-B2A4-1A22A8B0F6D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9DDAC-880D-49D7-8799-E5C5E8564A6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4069E-31C4-4199-883D-1CE0F54FD51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6F0A6-7775-4833-92A9-41EE971F09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B5BA4-A446-4CBB-A8A7-49CD18DBE38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AAC84-0CDE-434E-BED2-D9D5D788FC9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18D6A-0461-4EC3-A597-9E8AA56397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2F670-9BAD-460C-A345-343CD8090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C231-AC6A-44A5-BFC0-613C16D05D2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2E8CE-AB65-4B56-8895-D80ED178294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9440A9-E20F-492B-87EF-114FCA43B25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C47CA1-853A-447C-8AAA-62FBDD824C2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74F803-90C1-4FE8-B607-CF2117B95A0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5107E1-495C-449F-A9A0-37345D67382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F36865-CD35-484B-B669-B34CBFB5947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FEF1D6-853B-44B1-85CE-1FF42903835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ADBAA4-B914-40CB-B799-477DB4CFC11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76210A-9E03-4584-B6C1-E9620D272AE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FCE844-D330-40D8-B758-2312CBFC7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19B6C-8374-491E-A4C9-0F4FBFACF11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56BC5D-D242-432F-94B7-56E6C65EA3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763110-CD8B-441D-8046-73F4F3564F5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DC7CFB-0375-46D4-8E46-CA22C06A01E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52319-2008-48DA-9639-6079E6F5F42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9E1EE-A442-4B2F-93CA-AA9BAA9B6EB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F152-1E0A-4E76-9E81-44303698597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D14CC-C79E-4874-9883-DD11B0B1D2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BACB8-91F0-4D0E-92E5-497C6C23DE1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75FE3-0A09-4A68-A412-CF4772AB792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5D541-6A75-4FF0-BE9B-28FFCAD024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6FA97-7F89-4432-8825-87EEAA7E63C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FA7FB-C460-470B-876B-73AA13F05BF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4D253-84F1-4152-9450-B1991703CE0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781E-AC78-402D-9B5A-0E5894B0780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5A87-EB0B-4E16-BD39-E3B72C6DA4C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64E72-DE86-4813-B336-21416F8B50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8D4AC-E17E-47A5-B50B-38DC82D77D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24266-5929-4E26-86E9-BD3C223DB8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DE43C-1806-4AFF-8156-81996CD715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E55A2-48D8-43D4-9059-504AAB4EA6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28525-F694-4D50-BFFC-2F26F46083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D243-7B85-4A3F-AB44-1B8192451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596B0-ADEC-42FC-B719-10816EDF81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1A3E9-0C86-4B63-8E24-1B18CED7C7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FE690-5A46-4F46-AD31-0082E9369E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725E4-E052-4CCE-B68E-D3435C174E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9C4BD-BA1F-45DD-A40F-F3BC52A6A9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265C-7C5A-475C-9EB1-96AA3F8910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D5E5-0C91-4503-8890-9881A3AA56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07F9-B2BE-4269-BED8-BE7D05916F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E2B7-F120-4372-91F5-565BA19092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2101-134F-4A91-9A6F-8FEDECF78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8BB8-8266-4847-812E-132595C3ED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28EF-9835-4035-B2F4-0AB4215BF1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2A7E-DD2F-4445-A437-0956393D4E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DF6F-3959-40C6-A7A3-012D4DC09E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CAA6-B08F-4334-8BF7-ED2AEF7AAD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5B67-D2EE-418E-BFC8-FB581246BC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6742-B0A0-4F17-BFC2-DD75E1835C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5674-5BE0-449F-A011-DF38CB43B2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37AE0-0F67-4323-A6CA-F642712276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C970B-73F0-4F6C-9568-FCFBDD1026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84722-A6AB-42D8-B598-B2E4CE86D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BEAC-E8D2-407F-AC20-57FD40431D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4A4B4-D75E-459C-A04E-7A001E3D64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27BBD-62AC-4526-BA51-D020607128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2AF2B-4C68-429C-8CAF-0931EE8552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50906-BF99-4D83-8474-CF9064E904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1227D-AAAD-400F-AC81-0A58A40C04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6F4A4-847B-4AB1-8757-8998088081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F0139-E16B-41D3-906A-1F2E489FCD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16330-4056-4613-A139-5D47BAA56A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23F54-0375-406F-A927-106DE8F79C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F69274-6FB5-4763-91A5-EEEA715FF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E428-9952-4FEE-A6C1-B7238F7FD4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7DE4F-7A76-40B6-9186-B1A7FFADB2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81711-9ECF-4ED0-BA9B-984790F4751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5AF1B-616F-4600-AFB8-3189ED0BD2C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CB777-A79D-4F65-B3FE-F0CA70D155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29E96-0C2B-418C-BDE6-E92CF6CA38B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82445-E57A-4EE8-A098-D1725FD2AC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44FE8-4F8C-45A3-85F7-D8DA7ED3A3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817A7A-5C68-4746-B0DB-A44E20C8E7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B56DC9-7CF6-4F9C-90AA-FE1C385B05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FBA9D-0E61-4AAB-AA4B-2CF68D1F4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75B1-11BB-474E-B5D7-A56706FA8F2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9A42D-DE80-4D7A-BAD1-88167E07A5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4343D-A275-4DFA-95AB-55B124C22F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EFD0-7FBF-430E-93AE-690CC86FEF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D2DB-BB4B-4416-BC7C-223946DD98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0A8F3-0AF1-4726-973B-5937847801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28EAF-0399-4DF1-88F0-AA12A22697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8F18-B346-429A-AC14-DB99C0B8EB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78386-B9D8-4414-B8F6-A3DDF5F3A3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0FF76-3DA6-4F44-8F6F-E562C0D814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522C9-5DCE-4C88-81CD-09DD3422C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058B7-7043-4977-8B4A-9ACA9466132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88A5-E43F-46C1-96D5-18B537298C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1E63C-97BF-43E0-BA83-A39B34274C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D06B3-E05F-4BA6-8F0C-77EAA49F57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85476-F525-407E-A821-06773ADB25D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D5D55-7075-47A5-A7A7-AE9256D828B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DF422-7181-44B2-96B8-1391CA0E91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8D938-218E-4450-AC38-ECD7D6DFA9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5C1D2-7ACE-436A-BD22-921BF6E964A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2CCDB-22E2-47D1-BA11-5D9556B75B9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24E6D-35A9-4423-8B51-45E5FE3EB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4274-19A9-4B0A-817C-0BB151001E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B8B43-3C6D-4EC9-AA2A-0F06519DF6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7130B-2B96-4A7A-94E6-9531FD2623E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0654A-F28C-49E3-92A1-DD1494772A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5CF50-A036-4B8D-8C6A-21E6AA12CC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77975-7C80-49F5-828F-C4A9B37158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FAE29D-B516-4FEA-9776-D1E58872773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2E9726-48AD-4AA2-BC69-64B1B9A05C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7DCD95-7E2C-4AA9-B8E2-529BBE415E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2AD73E-D032-40DB-984E-B79A9AC019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CDF5D2-6F1B-4C6F-ACF5-DCA1774D6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5AC5-EE5C-445F-91B2-4B8F45AC3D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59221E-999C-49BC-A737-FE223713908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331FEC-4A87-4F2B-96FF-B6D4C76CEB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BC18D-E879-4BB3-ACB4-DDDB1B68A1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75DC91-8CDB-45AF-B908-0A3E363B1A6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53E54D-1D1D-46EF-B449-21D3B5E878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CF43B6-0B8D-428C-911B-A83635221D0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373D19-60FD-4257-95C4-D0E11DD0E0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7B187-6128-4A1E-82D4-8409198F721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C0F6C-11F4-47ED-B0FB-C1B78220275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6E378-7E1D-4781-8242-99313E551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1985-8047-459E-BDA8-470D34673E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B218-4EF9-47DE-BF17-5BE5E26FD64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7C3B-41D5-4932-9E79-2A141089A6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43D9-41F2-4E60-AD1D-65EC216815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20F8-5DFD-4B6E-B1CB-B0338C7B3DD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A1E5-7E70-446A-B104-190624FE35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8B5E-5A4D-465D-8AB8-D5760373EAD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B099-1B50-4C2D-A495-F742D9B2151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14FF-7AD5-46A7-A6D7-91BA28AC177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7DF0-4935-4B23-AA3A-93AF3F4B5A9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4057-BB07-472A-A68E-C4682961282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856A-85BD-4A1D-8248-9D393826756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F26F-B763-42E4-80EA-25541A8B1C0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22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put/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 and output redirection can be comb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 don’t have to be adjacent to file names, and the order in which the redirected files are listed doesn’t mat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 in.dat &gt; 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CA0D-23CA-4A49-A5FA-BB6CAC51268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read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B256-9C08-4991-B755-A0D49235787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three tables contain sampl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s printed in strikeout are consumed by the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8A79-8F62-432A-9E5B-D75D23C97DD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"/>
          <p:cNvSpPr/>
          <p:nvPr/>
        </p:nvSpPr>
        <p:spPr>
          <a:xfrm>
            <a:off x="4165560" y="2741760"/>
            <a:ext cx="12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combine conversion specifications, white-space characters, and non-white-space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 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 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F3B0-E868-40B2-BEAD-C47F5CE22B7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12"/>
          <p:cNvSpPr/>
          <p:nvPr/>
        </p:nvSpPr>
        <p:spPr>
          <a:xfrm>
            <a:off x="5372280" y="464652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traight Connector 10"/>
          <p:cNvSpPr/>
          <p:nvPr/>
        </p:nvSpPr>
        <p:spPr>
          <a:xfrm>
            <a:off x="5384880" y="5537160"/>
            <a:ext cx="291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traight Connector 14"/>
          <p:cNvSpPr/>
          <p:nvPr/>
        </p:nvSpPr>
        <p:spPr>
          <a:xfrm>
            <a:off x="5359320" y="2857680"/>
            <a:ext cx="43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traight Connector 10"/>
          <p:cNvSpPr/>
          <p:nvPr/>
        </p:nvSpPr>
        <p:spPr>
          <a:xfrm>
            <a:off x="5370480" y="3746520"/>
            <a:ext cx="291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assignment suppression and specifying a field 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d%d", &amp;i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s%s", str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My•Fair•Lady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Fai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1d%2d%3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&amp;j, &amp;k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2d%2s%2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6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str, &amp;j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34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AF4E-9EC6-4E32-A33C-1161A07FACF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traight Connector 6"/>
          <p:cNvSpPr/>
          <p:nvPr/>
        </p:nvSpPr>
        <p:spPr>
          <a:xfrm>
            <a:off x="4660920" y="285768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traight Connector 8"/>
          <p:cNvSpPr/>
          <p:nvPr/>
        </p:nvSpPr>
        <p:spPr>
          <a:xfrm>
            <a:off x="4635360" y="3478320"/>
            <a:ext cx="1051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traight Connector 12"/>
          <p:cNvSpPr/>
          <p:nvPr/>
        </p:nvSpPr>
        <p:spPr>
          <a:xfrm>
            <a:off x="4660920" y="406404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traight Connector 14"/>
          <p:cNvSpPr/>
          <p:nvPr/>
        </p:nvSpPr>
        <p:spPr>
          <a:xfrm>
            <a:off x="4660920" y="5245200"/>
            <a:ext cx="90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illustrat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Inpu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i%i%i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k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012•0x12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abc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123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^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*d%d%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0•20•30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A9BF-EF84-447E-ABC8-5435FD00C54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traight Connector 6"/>
          <p:cNvSpPr/>
          <p:nvPr/>
        </p:nvSpPr>
        <p:spPr>
          <a:xfrm>
            <a:off x="5334120" y="2502000"/>
            <a:ext cx="1536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traight Connector 8"/>
          <p:cNvSpPr/>
          <p:nvPr/>
        </p:nvSpPr>
        <p:spPr>
          <a:xfrm>
            <a:off x="5334120" y="3706920"/>
            <a:ext cx="430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traight Connector 8"/>
          <p:cNvSpPr/>
          <p:nvPr/>
        </p:nvSpPr>
        <p:spPr>
          <a:xfrm>
            <a:off x="5335560" y="4952880"/>
            <a:ext cx="43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Straight Connector 8"/>
          <p:cNvSpPr/>
          <p:nvPr/>
        </p:nvSpPr>
        <p:spPr>
          <a:xfrm>
            <a:off x="5348160" y="55627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ask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ad and st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items, we expect its return value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return value is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mething went wr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encountered end-of-file before matching the format string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was unable to read characters from the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data item was in the wro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8A27-5AF8-4831-B194-E986FC349ED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two indicators associated with it: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 indicat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indicators are cleared when the stream is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ing end-of-file sets the end-of-file indicator, and a read error sets the error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rror indicator is also set when a write error occurs on an output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82f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A matching failure doesn’t change eithe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20C-FEC2-46BB-A2BE-A5043EDB5D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error or end-of-file indicator is set, it remains in that state until it’s explicitly cleared, perhaps by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lears both the end-of-file and error indic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(fp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dicato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eded often, since some of the other library functions clear one or both indicators as a side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60E4-A2EC-4285-99CD-B5EB71E61E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can be used to test a stream’s indicators to determine why a prior operation on the stream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nd-of-file indicator is set for the stream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rror indicator is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B1ED-F7CA-4F14-A850-7C0D1B34AF1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smaller-than-expected valu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determine the rea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the end of the input file has been rea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a read error occurred during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either returns a nonzero value, a matching failure must have occur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turn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how many data items were read before the problem occur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9808-96DE-48F7-81CE-82C3E3F8D9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problem with output redirection is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ut into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they will appear on the screen even 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redir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3C0B-660D-41DF-8B3E-56E69374008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example that shows ho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arches a file for a line that begins with an inte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ind_int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value of the integer that it finds or an error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can’t be 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line begins with an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AB45-7905-4DF0-916C-E14063F0497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ind_int(const char *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               /* can't open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fscanf(fp, "%d", &amp;n) !=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rror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2;             /* read erro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of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3;             /* integer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*[^\n]");   /* skips rest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B1C7-07FA-46C8-9DA9-8DE62965A75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racter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can read and write singl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work equally well with text streams and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treat characters as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reason is that the input functions indicate an end-of-file (or error) condition by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negative integer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DB56-FA4B-4F30-9F3A-99CEA5BE54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one characte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(ch);    /* writes ch to stdout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a character to an arbitrary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(ch, fp);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fp); 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BBE0-3174-43F2-BF86-2FCC31B445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is usually a macr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putchar(c) putc((c), stdou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 standard allows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to evaluate the stream argument more than once, whic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permitted to d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gives a faster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write error occurs, all three functions set the error indicator for the stream and retur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they return the character that was writt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2F15-400D-4B7B-BDED-404F5B11957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a character from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har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a character from an arbitrary strea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f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three functions treat the character as 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(which is then converted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before it’s returned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they never return a negative value other th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8E1D-B947-4D1E-B7D1-FEAC97ACB41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rmally a macro as w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getchar() getc(std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v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79E3-D412-412E-9E22-805B7A8EC58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behave the same if a problem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end-of-file, they set the stream’s end-of-file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read error occurs, they set the stream’s error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differentiate between the two situations, we can call ei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97D2-E6FA-46D1-AF86-580C2BEED1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most common us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read characters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for that purp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fp)) != EOF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store the return value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no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sting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give the wrong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A72-1A82-498C-9242-9FBB1271B97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“pushes back” a character read from a stream and clears the stream’s end-of-file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digits, stopping at the first nondig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isdigit(ch = getc(fp)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(ch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ushes back last character rea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9E6E-58AB-490D-862E-C35C0C20CC1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upports two kinds of files: text and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ytes 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 characters, allowing humans to examine or edit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ource code for a C program is stored in a tex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nary fil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don’t necessarily represent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oups of bytes might represent other types of data, such as integers and floating-point numb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ecutable C program is stored in a binary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5695-6B69-44D0-9CD5-BC7B1E4CBB7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characters that can be pushed back by consecutiv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es; only the first call is guaranteed to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a file-positioning func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causes the pushed-back characters to b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haracter it was asked to push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attempt is made to push back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to push back more characters than a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AFC-664A-48BE-BE1D-00E9E800F3D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makes a copy of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ames of the original file and the new file will be specified on the command line when the program i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1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 f1.c f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ssue an error message if there aren’t exactly two file names on the command line or if either file can’t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06B2-582B-4CD1-9C7B-ECA6B364427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le modes enabl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both text and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u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, the program wouldn’t necessarily be able to copy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E6CA-B5E8-4A5F-86D1-C3BA81D0A0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opies a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source_fp, *dest_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usage: fcopy source des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9F86-9909-4ACD-8254-464CCA0F4A8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source_fp = fopen(argv[1], "r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dest_fp = fopen(argv[2], "w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2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source_fp)) != E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6E01-1548-4200-94A7-656C63C9747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e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brary functions in the next group are able to read and write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are used mostly with text streams, although it’s legal to use them with binary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B6FD-9045-49A5-9A57-80B47F123B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a string of character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("Hi, there!");  /* writes to stdout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it writes the characters in the string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adds a new-line charact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23E3-22F2-47D9-90A1-5BC36FEFF69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s second argument indicates the stream to which the output should be w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("Hi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re!"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write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doesn’t write a new-line character unless one is present in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write error occurs; otherwise, they return a non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31B-3FE8-4111-ABC7-23C36CB63DE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ads a line of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(str); /* reads a line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one by one, storing them in the array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until it reads a new-line character (which it discar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read from any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saf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ince it limits the number of characters that it will s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7FBE-DE27-439E-8BAA-7C73910C2F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a line into a character array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characters until it reaches the first new-line character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have been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reads the new-line charac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it along with the other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CF03-B15D-4FE6-BB2F-A36F9904B0B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have two characteristics that binary files don’t poss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are divided into lin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line in a text file normally ends with one or two special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ndows: carriage-return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line-feed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IX and newer versions of Mac OS: line-feed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lder versions of Mac OS: carriage-return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8AD-3B5C-4407-9F78-31FD0727821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 a null pointer if a read error occurs or they reach the end of the input stream before storing an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both return their first argument, which points to the array in which the input was sto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store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9DAD-2A58-4A92-B206-68F6BA1C03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be used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most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fe to use only when the string being rea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uarant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it into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re’s no guarantee (and there usually isn’t), it’s much safer to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from the standard input stream if pas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its third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4832-ADED-43C5-AC1A-A203E5D0197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read and write large blocks of data in a single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used primarily with binary streams, although—with care—it’s possible to use them with text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B84D-DD7E-41A9-BD85-15E0B201882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designed to copy an array from memory to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s in 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ress of arr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ze of each array element (in byte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elements to wri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the entire contents of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D897-D5FF-4EA8-B022-F169FC71161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elements actually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will be less than the third argument if a write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DD0F-7D45-4637-A8D6-C7BDB76A293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the elements of an array from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the contents of a file into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read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indicates the actual number of elements re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should equal the third argument unless the end of the input file was reached or a read error occurr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F749-D812-441B-9965-C979F1C3843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venient for a program that needs to store data in a file before termin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ter, the program (or another program)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ad the data back into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ata doesn’t need to be in arra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a structur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&amp;s, sizeof(s), 1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734B-D126-4ECD-8E93-08FD2B7DE9E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an associat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si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, the file position is set at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“append” mode, the initial file position may be at the beginning or end, depending on the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read or write operation is performed, the file position advances automatically, providing sequential acces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9BD9-F562-41B1-B23E-89FE682611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sequential access is fine for many applications, some programs need the ability to jump around within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contains a series of records, we might want to jump directly to a particular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five functions that allow a program to determine the current file position or to chang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A77E-5EB0-4B61-8470-8048710B35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hanges the file position associated with the first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hird argument is one of three mac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ginning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 fil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argument,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s a (possibly negative)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902C-1305-45F0-A1E0-60DF812CD27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may contain a special “end-of-file” mark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the marker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1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Ctrl-Z), but it is not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ther operating systems, including UNIX, have no special end-of-file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binary file, there are no end-of-line or end-of-file markers; all bytes are treated eq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D3CD-2371-4B8A-BFAA-71513D55C2A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beginning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end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E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back 10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-10L, SEEK_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rror occurs (the requested position doesn’t exist, for example)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BB06-76A0-4CF8-9978-1B884C8A3D7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le-positioning functions are best used with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prohibit programs from using them with text streams, but certain restrictions a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text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only to move to the beginning or end of a text stream or to return to a place that was visited previou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binary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required to support calls in which the third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D7FE-8BF8-4D1F-81C8-E0AB90D31B9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turns the current file position as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alue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be saved and later supplied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 = ftell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file_pos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775-217C-4E34-B94F-B911B1D2194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binary stream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urrent file position as a byte count, where zero represents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text stre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cessarily a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it’s best not to perform arithmetic on values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A3E6-E79D-4590-88C0-38074E0390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sets the file 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early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L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ifference?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return a value but does clear the error indicator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C72B-64AC-49AC-ACE1-07A62943BD1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limited to files whose positions can be stored in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working with very large files, C provides two additional function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an handle large files because they use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present file 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isn’t necessarily an integer; it could be a structure, for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A87B-6860-4EEC-B29D-F00CDCB2618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position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ts the file position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the value sto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ails, it stores an error cod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when they succeed and a nonzero value when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6268-A879-4E38-8C2C-67B61798D7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ave a file position and return to it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1DC-F007-49D9-B311-7A12CA8748B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odifying a File of Part Record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ons perform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s a binary file containing part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s the structures into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n_h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each structur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structures back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opens the fil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, allowing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3DB3-CAFB-424C-8A33-F1D46A1C3E9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odifies a file of part records by setting 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n hand to zero for all record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PART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inventory[MAX_PAR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_par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A55C-0970-4461-8E43-EF48E95B4C7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can be stored in text form or in binar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store the number 32767 in a file would be to write it in text form as the characters 3, 2, 7, 6, and 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2AAA-FEEE-4F1D-8AEC-0877D58F6E8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1"/>
          <a:stretch/>
        </p:blipFill>
        <p:spPr>
          <a:xfrm>
            <a:off x="1190520" y="3924360"/>
            <a:ext cx="6696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"inventory.dat", "rb+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inventory fil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parts = fread(inventory, sizeof(struct part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X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parts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[i].on_ha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inventory, sizeof(struct part), num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C684-E0E9-4C3C-BB23-7EBC7FCE517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described in this section can read and write data using a string as though it were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characters into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from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4E07-2391-4631-9A2B-5691F538A2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similar function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lso belong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 are discussed in Chapter 2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F077-5047-4250-81C9-B18504ED01F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output into a character array (pointed to by its first argument) instead of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writ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9/20/2010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te, "%d/%d/%d", 9, 20, 20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dds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the number of characters stored (not counting the null charac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CC52-6F21-43F3-A65A-DD2D7D208C2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format data, with the result saved in a string until it’s time to produc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convenient for converting numbers to character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5002-D3C8-4F28-AED7-E2BC6D86AC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(new in C99) is the same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except for an additional second parameter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more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will be written to the string, not counting the terminating null character, which is always written unle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(name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3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%s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s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Albert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, Al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written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FDA2-8FF0-43C5-92E2-D05D7756FEF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characters that would have been written (not including the null character) had there been no length restr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ncoding error occu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d room to write all the requested characters, we can test whether its return value was nonnegative and less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872-4182-47C5-A84B-68912489267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a string (pointed to by its first argument) instead of reading from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is a format string identical to that us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ED7A-E143-4AC6-B6C1-A3B2E953EEF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extracting data from a string that was read by another inpu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obtain a line of input, then passes the lin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further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a line of inp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(str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extracts two integer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66F1-6540-4029-8B54-C3293E413CD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dvantage of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we can examine an input line as many times as need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makes it easier to recognize alternate input forms and to recover from err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reading a date that’s written either in the form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no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ope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m\n")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FA5A-C7E1-404C-8255-7178C4DEF2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ther option is to store the number in binary, which would take as few as two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ing numbers in binary can often sav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962E-B28A-4693-B7D0-AAF9E53DD0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3187800" y="2552760"/>
            <a:ext cx="27032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data items successfully read and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it reaches the end of the string (marked by a null character) before finding the firs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0D36-78E0-47D8-A8D5-8A4CD2561EE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that read from a file or write to a file must take into account whether it’s text or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displays the contents of a file on the screen will probably assume it’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ile-copying program, on the other hand, can’t assume that the file to be copied i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, binary files containing an end-of-file character won’t be copied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n’t say for sure whether a file is text or binary, it’s safer to assume that it’s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6F8F-6811-4498-A140-0F31C504287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icity is one of the attractions of input and out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fortunately, redirection is too limited for many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program relies on redirection, it has no control over its files; it doesn’t even know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 doesn’t help if the program needs to read from two files or write to two files at the sa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redirection isn’t enough, we’ll use the file operation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61F-4659-4316-8004-4E81C2F1F4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ing a file for use as a stream requires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open(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filenam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mod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ame of the file to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argument may include information about the file’s location, such as a drive specifier or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“mode string” that specifies what operations we intend to perform on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4758-2C63-4E9C-943A-0D86A16FD01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input/output library is the biggest and most important part of the standard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is the primary repository of input/output functions, includ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chapter provides more information about these six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also introduces many new functions, most of which deal with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B750-9C9C-40C2-A50A-1E84D868AD1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ppears twice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C99 keyword, indicat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point to strings that don’t share memory l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conta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ut is otherwise 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it can usually be ig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B9C0-2724-4AEA-AE79-FCD3ED8FD6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be careful when the file name in a call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clud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project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ll fail, beca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eated as a character esca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avoid the problem is to 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\project\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is to use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/project/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9DC4-C70F-4B5D-9616-A358F8EC4F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the program can (and usually will) save in a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"in.dat", "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opens in.dat for reading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can’t open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49E5-9B4A-4B40-9D7B-421477B11BB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tors that determine which mode string to pas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operations are to be performed o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ther the file contains text or bin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4DE0-3201-44D5-B003-8A1AADB4EE6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text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6B52-28C4-49A9-ACF5-78E37DFD43D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binary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88F0-42BD-4A48-935D-74FCAD39490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there are different mode string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e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normally overwrites what was previously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 for appending, data written to the file is added at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ADFB-2582-4AD2-9EA9-CB47B769DE6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apply when a file is opened for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reading to writing without first calling a file-positioning function unless the reading operation encountered the end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writing to reading without either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calling a file-positioning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CBA3-8B7E-461D-8D8C-6DF8BE3557E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a program to close a file that it’s no longer u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rgum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file pointer obtained from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the file was closed success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 returns the error co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19F6-9225-46E2-AA11-CF2CA26CD52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utline of a program that opens a file for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FILE_NAME "example.da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FILE_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Can't open %s\n", FILE_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420C-0F11-4041-84F6-CF0A41F1F16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pics to be cov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input and output redirection, and the difference between text files and bina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designed specifically for use with files, including functions that open and close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perform “formatted” 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read and write unformatted data (characters, lines, and b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ndom access operations on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write to a string or read from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B9AA-15B6-41B8-A8DE-30F0C970EC4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not unusual to se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mbined with the declara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_NAME, "r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 the test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FILE_NAME, "r"))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2829-6168-4E74-A880-A1EF5D4E7BE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aches a different file to a stream that’s already o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ost common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associate a file with one of the standard stream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uses a program to begin writing to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freopen("foo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23A3-8E1C-4A87-8342-D6F5C70529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normal return value is its third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open the new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316B-E16F-4BE6-BBAE-53C60FC813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adds a new twist: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empts to change the stream’s mode to that specifi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s aren’t required to support this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y do, they may place restrictions on which mode changes are permit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CE85-A20E-4BED-B8B9-B717D00A19F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several ways to supply file names to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ing file names into the program doesn’t provide much flex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mpting the user to enter file names can be awk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the program obtain file names from the command line is often the best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the command line to supply two file names to a program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names.dat dates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9486-20CA-45BB-AA78-F3BE3AEA30D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showed how to access command-line arguments by def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 function with two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command-line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array of pointers to the argument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7309-2454-4A15-90FA-3D5B0D946A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0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ogram nam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roug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-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remaining arguments,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3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D8B5-A748-4900-A52C-017FEF16C24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>
            <a:off x="1639800" y="3809880"/>
            <a:ext cx="57769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hecking Whether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 File Can Be Opened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determines if a file exists and can be opened for r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r will give the program a file name to 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will then print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user enters the wrong number of arguments on the command line, the program will print the messag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s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D1B4-6184-4544-9977-566593CD396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hecks whether a file can be opened for readi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usage: canopen filenam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argv[1], "r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't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95ED-AF04-44C4-AC05-7E049DE7BCB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often need to create temporary files—files that exist only as long as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wo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for working with tempor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935D-F77B-4DC0-A0F6-DDFAFC4F7CD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some I/O functions belong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deal with wide characters rather than ordinar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 or write data are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te input/output fun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ila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e-character input/outpu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F903-025B-4DC6-BA75-3CB9BA232F7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 a temporary file (ope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) that will exist until it’s closed or the program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can be used to access the file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temp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empptr = tmpfi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create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3A95-EE78-4869-8843-BC610AFC5A0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backs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know the name of the file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decide later to make the file perma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lternative is to create a temporary file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useful for ensuring that this file doesn’t have the same name as an existing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CDD8-0F66-42E1-853F-47F14F2CB39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enerates a name for a temporary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s argument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name in a static variable and returns a pointer to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file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 = tmpnam(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FC2F-578E-4F84-9F9C-638247FBBF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pies the file name into a character array provided by the programm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filename[L_tmpnam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file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is ca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returns a pointer to the first character of this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_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pecifies how long to make a character array that will hold a temporary file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6CA4-3D01-4740-81A8-2064C660ABE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_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(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specifies the maximum number of temporary file names that can be generat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generate a file nam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4288-6C8D-4786-991B-D475DC624FF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erring data to or from a disk drive is a relatively slow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ret to achieving acceptable performa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 written to a stream is actually stored in a buffer area in memory; when it’s full (or the stream is closed), the buffer is “flush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streams can be buffered in a similar way: the buffer contains data from the input device; input is read from this buffer instead of the device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E9C1-63F2-40F7-95C3-9D834AD6AB1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 can result in enormous gains in efficiency, since reading a byte from a buffer or storing a byte in a buffer is very 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ime to transfer the buffer contents to or from disk, but one large “block move” is much faster than many tiny byte m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erform buffering automatically when it seems advantage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rare occasions, we may need to use the func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AA76-47F0-427E-AEDC-9E058B333E2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 program can flush a file’s buffer as often as it wi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the buffer for the file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fp);   /* flushes buffer for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utput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NULL);  /* flushes all buffers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BF2A-2692-4F67-90E3-02D21BA89A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ws us to change the way a stream is buffered and to control the size and location of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’s third argument specifies the kind of buffering des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full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L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line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ll buffering is the default for streams that aren’t connected to interactiv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B48B-9247-4199-A2A2-2304E3DB61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(if it’s not a null pointer) is the address of the desired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uffer might have static storage duration, automatic storage duration, or even be allocated dynam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last argument is the number of bytes in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A45F-F948-4233-AF43-51911634EBE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eam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, the ter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ans any source of input or any destination for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small programs obtain all their input from one stream (the keyboard) and write all their output to another stream (the scre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rger programs may need additional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 often represent files stored on variou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y could just as easily be associated with devices such as network ports and pr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ED47-94C1-480D-A12C-3D7D87092A9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hanges the buffe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ull buffering,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as the buff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buffer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 buffer, _IOFBF,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called 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pened but before any other operations are performe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DB60-7CB9-4BAF-B8CB-928A6DFCA5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also legal to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a null pointer as the second argument, which request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 a buffer with the specified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a nonzero value i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gument is invalid or the request can’t be ho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4F1A-2E15-483A-8380-BE4D0C2B90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older function that assumes default values for the buffering mode and buffer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(stream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’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sidered to be obso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3782-EB22-4E9D-8FD3-0E14ECE3B4D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perform basic file management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most other functions in this sectio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 with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if they succeed and a nonzero value if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2857-FE89-4EF6-B449-D1EAA45ACED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letes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eletes the file named "foo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program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create a temporary file, it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delete the file before the program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ffect of removing a file that’s currently open is implementation-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2710-2AD8-4E74-8C4B-83CCF3F850C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nges the name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("foo", "ba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names "foo" to "bar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renaming a temporary file cre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program should decide to make it perma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with the new name already exists, the effect is implementation-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fail if asked to rename an open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2079-91A6-42DB-8357-24E3CA4672A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ormatted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use format strings to control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numeric form to character form during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character form to numeric form during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AB00-ADEA-4377-8C2A-26EDEC28A27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rite a variable number of data items to an output stream, using a format string to control the appearance of the outpu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both functions end with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..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ymbol (an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ips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hich indicates a variable number of additional argumen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printf(FILE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strea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printf(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the number of characters written; a negative return value indicates that an error occurr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3DB4-DFF6-4831-BED7-2B60092C78E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writ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to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stdo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fp, 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26A1-97B1-4046-81FC-0472B554CA8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s with any out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its most common uses is to write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</a:t>
            </a: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rror: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.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a messag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it will appear on the screen even if the user redirec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28AD-11CF-4EA6-A0D5-4C15947F82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stream is done through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ertain streams are represented by file pointers with standar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file pointers can be declared as nee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1, *f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7BC6-9157-444A-A34D-508681200B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othe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write formatted output to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,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re fairly obs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’re discussed along with that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4D7F-A9B3-4D24-9E80-DEB13C3394B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 a format string containing ordinary characters and/or conversion specif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inary characters are printed a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describe how the remaining arguments are to be converted to character form for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041-E26B-4B5D-9730-91ED322E3D4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, followed by as many as five distinct i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BC67-FACD-4D9F-9B67-B22FC05A447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6" descr=""/>
          <p:cNvPicPr/>
          <p:nvPr/>
        </p:nvPicPr>
        <p:blipFill>
          <a:blip r:embed="rId1"/>
          <a:stretch/>
        </p:blipFill>
        <p:spPr>
          <a:xfrm>
            <a:off x="2411280" y="2994120"/>
            <a:ext cx="4230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; more than one permitt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ft-justify within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produced by signed conversions always begin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negative numbers produced by signed conversions 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eded by a sp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 numbers begin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nzero hexadecimal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Floating-point numbers always have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Trailing zeros aren’t removed from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nted with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are padded with leading zeros up to the field wid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zero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DBC2-B52E-4D62-97EF-A370E520FB2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An item that’s too small to occupy the field will be p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default, spaces are added to the left of the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tem that’s too large for the field width will still be displayed in its entir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eld width is either an integer or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resent, the field width is obtained from the next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ED04-1CE8-4ECC-B3FD-EF760A545E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The meaning of the precision depends on the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number of digits (leading zeros ar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ed if the number has fewer digit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digits after the decimal poi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significant digi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number of by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ecision is a period (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an integer or the charact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ff7706"/>
              </a:buClr>
              <a:buFont typeface="Times New Roman"/>
              <a:buChar char="–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If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*</a:t>
            </a: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 is present, the precision is obtained from the next argu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F8FB-2A85-4266-8D98-56286A7AB7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item to be display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rmally refers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646B-06F9-4EFE-8633-ECE6DC7C2FA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int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eff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F423-927E-4F68-B9FF-7D507F3C25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-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0481-3CCA-4693-A393-AA41AAA22A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one of the characters in the following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d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o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u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base 8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se 10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or base 16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xadecimal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m in upper cas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, put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ecimal point in the correct position. If no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CE39-DA76-4AAB-BCAC-A367152B565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hree standard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ault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reams are ready to use—we don’t declare them, and we don’t open or clo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5C3F-E6BC-4EE7-B36B-7EA6801DAE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scientific notation. If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e let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eith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ooses betwee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hexadecimal scientif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ation using the form [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hh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±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hex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m i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per case. The choic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affects the cas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55F9-62CB-4D3B-B91D-4A4213929E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play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as an unsigned charact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s pointed to by the argument. Sto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when the number of bytes specified by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(if present) is reached or a null character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printable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4000" spc="-1" strike="noStrike">
                <a:solidFill>
                  <a:srgbClr val="b82f25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ten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produces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2D3C-BEDF-4B07-9C47-D0A17A7A0D2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write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ly undefined conversion specifications now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E28E-651A-4D1D-922A-7C62876696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flags o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–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•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+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0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BD20-59CA-4528-A7B7-F360B753F5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lag on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2F2D-5A75-49A0-B155-96854B431ED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minimum field width and precision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     Result of App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          Conversion to              Convers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ogus"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uzzwor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bogu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s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og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•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•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B8F0-1D10-413C-907F-0C4BABEE743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how 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displays some numb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and oth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                   Conversion to 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6.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.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.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.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.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.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A875-5D37-4CAE-9B88-E457A4A6440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inimum field width and precision are usually embedded in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t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where either number would normally go allows us to specify it as an arg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produce the same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4d"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4d", 6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*d"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*d", 6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D254-C85D-4650-9854-16BC26729AE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major advantag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it allows us to use a macro to specify the width or prec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IDTH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idth or precision can even be computed during program exec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age_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cols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25F2-887D-4735-AC2B-84812FB43A8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print the value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p", (void *)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isplays value of pt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ointer is likely to be shown as an octal or hexadecimal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B652-DE10-4DA6-B37A-DF3AE16F84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/O functions discussed in previous chapters obtain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send outpu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perating systems allow these default meanings to be changed via a mechanism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6EE4-902F-45A4-B689-CC0629C7BE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find out how many characters have been printed so far by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llowing call,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d%n\n", 123, &amp;l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9753-A61A-4EB9-A6CD-4FFEEB8B0F6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data items from an input stream, using a format string to indicate the layout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rmat string, any number of pointers—each pointing to an object—follow as additional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items are converted (according to conversion specifications in the format string) and stored in thes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9121-F21C-4603-8FEB-599A2D14743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reads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9EB5-0C9F-4750-8589-8B4703270EA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s that 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to return prematur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more input characters could be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input characters didn’t match the format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an input failure can also occur because of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ding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C932-A6B6-4760-8B41-021F9AD692D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turn </a:t>
            </a: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the number of data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ere read and assigned to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input failure occurs before any data items can be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s that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are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integers one by one, stopping at the first sign of trou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scanf("%d", &amp;i) == 1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AB0C-1E8D-40A2-B4F2-D78ABC9B47D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semble thos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ork differ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represents a pattern tha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ttempts to match as it reads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input doesn’t match the format string, the function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put character that didn’t match is “pushed back” to be read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CA3-BEA7-4694-A6B1-FC0AC4D5DE6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may contain three th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1775-C847-40D1-8B30-42F6E41DD95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s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resemble those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onversion specifications skip white-space characters at the beginning of an input item (the exception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never ski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i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te-space character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6368-7AB0-4BE7-B846-E53BBF0AD2A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ne or more white-space characters in a format string match zero or more white-space characters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non-white-space character oth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the same character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2499-0FAC-464F-9173-4DCA1E636AE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ISBN %d-%d-%ld-%d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s that the input will consist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ISB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sibly some white-space charac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ng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70DB-E77F-45DE-95B1-6A2642777D0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technique for forcing a program to obtain its input from a file instead of from the keybo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 redir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data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now go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ut.d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ile instead of appearing on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78E5-8D24-41D5-86C7-CECA7B78F50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llow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Signif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ignment suppress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 input item is read but not assigned to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ms matche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n’t included in the count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CAEC-3CFD-4248-A372-5E02B64A5DA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Limits the number of characters in an inpu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 skipped at the beginning of a conversion don’t 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object in which the input item will be stor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able on the next slide lists each length modifier and the type indicated when it is combined with a conversion specif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BF40-2421-4A97-9741-A00F12781D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-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05E0-76CE-474B-8EF2-D3B886B805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Must be one of the characters in the following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integer;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The integer is assumed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be in base 10 unless it begins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dica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) or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hexadecimal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octal integer; the corresponding argument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FEF1-E1B3-46EB-AB9A-7C77D1EBE1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hexadecimal integ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unsigne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floating-point numb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, wher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maximum fiel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th, or one character if no field width is specifie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 (or a character object, if no field width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d). Doesn’t add a null character at the en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sequence of non-white-space characters,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s a null character at the end.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be a pointer to a 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5BCD-980B-4BFB-B646-3DB8557D8F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nonempty sequence of characters from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, then adds a null character at the en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pointer value in the form tha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uld have written it.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be a pointer to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No input is consum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the return valu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affect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7B96-5555-4C46-962B-0E90907DCA7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data items can always begin with a sig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s convert the item to unsigned form, however, so they’re not normally used to read nega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B71B-B286-43D4-8791-683F61C3EAB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 is a more complicated (and more flexible) version of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onversion specification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rm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any set of characte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not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containing only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that doesn’t conta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46F7-F3A8-4FB2-BCE4-5302B80F983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re closely related to the numeric conversion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onvert strings (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-297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their equivalent numeric values (–29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, for example, looks for an optio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ign, followed by decimal digits; this is the same form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t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qu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DAFE-80F4-4431-8C84-BA1A65A844D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nd numeric convers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Convers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8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6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4E47-DF23-4B9C-9D80-C5DF2D7747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8T15:25:10Z</dcterms:modified>
  <cp:revision>1371</cp:revision>
  <dc:subject/>
  <dc:title>No Slide Title</dc:title>
</cp:coreProperties>
</file>