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9C50-E0C9-4790-8EBD-5CF6DD624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8033-BFFA-4672-94BB-75310D95419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81767-C656-45A2-87B2-1C93FBD2ADE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B58AB-3C5B-46DF-82E7-35686DE7660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3DED1-288B-4ED2-9764-D0219C07E5D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2F421-BFFF-4C72-9D6E-7209242A51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66B35-BB20-4BAD-87C8-C13C416490D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A4AA4-F3CC-43E1-A558-332844A237F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0D047-564C-4E48-8AEE-8317487BFAC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A7F03-0548-4972-83B0-23A54BB87A4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60147-1AC7-489A-A406-FA37A4B548A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34683-D55B-4486-BFF8-02C1CA3D2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66E0-9C77-4B0A-8778-425A4611CB1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2F8BD-E6EE-4E76-AFD4-5BC5EAB5454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EF112-ACCF-4141-A2A8-FF44383350D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1B4F6E-E14B-4A46-A371-7605B4503B9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C9CDD-D702-4282-A068-F775A0C0FAF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C17172-86E9-40DF-980C-FF8D585C36B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D36A3-D25B-4751-B15B-2014581C3A6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F7F1E-6ABB-4EA3-90A7-84929D35546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CA719-8E6C-49D4-9938-FCD79E673F5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2B28BD-B0C2-432D-B09F-67E66B81246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79D51-963C-412C-A420-C39033E35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5A5A-136F-4275-B12F-594EB984B7D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DD488-81B6-41B4-9F59-84C8C65E2B2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3F4449-E256-4D5F-86F8-2C74FBB9159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F0921D-A401-4D98-9A11-957B3DC30CE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C5B8F2-7168-4B63-B8F4-10FDD3095F3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53C055-9EFB-43BC-8DC8-FE8D0E79C4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02A6CA-D43B-4504-AFE3-01FDB6FDC43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692B84-58A7-4B25-9E4D-437D0777D14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003F53-5015-43DB-9CCE-E09383F7157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7920EA-EC0B-4D9B-8336-FD2B9D78D97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41289F-0720-4FD3-A4DB-68DFBA903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F6521-0410-457E-BE0B-8DDA34E3699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FE3003-868E-4260-B380-51DEE7571FC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A68A46-EE58-4B4E-B307-C830CEEEE79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3E954D-1B78-4613-9C9C-D4D242BE246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56951-889E-4B2F-9843-3263F838B87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DFAAD-FFC2-4D19-843B-D0BF4E80D21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E80FB-1B5C-44E1-81ED-43D7D8A5E52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FAABA-2F83-4622-9D22-24E24107D21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888BC-0F39-4990-8CA8-96FFEE7B6E6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B36E1-5E3C-42F8-B0FB-E7FDB876080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9A072-0207-4BA9-91E9-74FB99DB65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2BB48-18CF-466D-8BBA-352467628F6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FA7EA-3A5B-4274-BB54-7793C2B70C1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B8971-4C47-4F0E-B4CF-0BACAA7B922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926C5-D990-4B7D-A4DF-D8EB79E5AF6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DF541-54DD-4D68-9198-0E9BF561398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EF175-683E-4154-AEFB-9958BBBE2B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3D5F7-C3EF-4126-9877-4BB8F39717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2FF75-ABDD-44E6-980E-36BC0E1FC5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8E938-3EEE-4490-9239-39B499214A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07007-4890-421F-ADCF-46C930DF56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18FD4-8C22-461D-B3F1-8895D098E4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F978-4E6D-4B9D-8C40-D787CA434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2E1B6-6F71-42DD-8E07-DD9E3E8EBC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3A7F4-1925-42D8-B711-CA88129AB4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495AD-F8AA-463D-BD2F-102877DD89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AF2F2-5F5E-4960-8898-5F8B1386E2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6DD48-5E2B-499F-B991-6C63EAE735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8F3C-23BA-4E7D-B57B-5254AE543B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5AF0-86C6-4939-9855-4F5E63513C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48E7-6636-4559-B267-CAE74066F2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0B58-497A-4588-B599-8D0D87C2B6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D2FF-C7AF-4974-ADED-56EB099625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B9CD-1F19-45C0-9520-9670D07A00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0F6C-B397-4D7C-BE83-BF6970A96A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3DF1-BA23-4DC1-8B74-B941D1A3E4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0867-C6F7-46E7-BE19-23D0BD857E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FDFA-D212-4FE6-A506-55A0658B36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8E50-9DE2-44F1-AAF4-285F36FEB1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0D32-F8FC-4D37-93EA-525841BB55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4E6B-671B-4A1A-B770-62C5A5671D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E4E7E-483D-4C1E-A4BD-16F986DD9F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85028-446F-403A-92E4-019E5A3A11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124BF-7773-4887-8B92-304CBC73D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55F1-4C64-4467-8250-F806FE2583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98A52-C618-44B1-B54D-E46DD95FF0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235F8-C61A-4BAB-AADD-0A45B06112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93D21-272A-4CCF-9C6A-65A9D44060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8634D-A826-4786-9975-45EE8A0380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9E819-72EB-4B6D-8F75-7A00F399D1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F1B0F-18BA-4509-B126-C9916E1486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3B860-DA57-447D-B689-6E57ED0AAB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12D9F-C1C2-4C3B-A705-B74DEEA9F9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FAFED-D40A-4A01-9DF0-F3DD040C7AB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CECB3-F8BB-49C9-A225-9EE1C2725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9AB5-E5CF-4FE0-A2CA-7D09A3F3630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CC72B-868C-414C-BF92-CB692E6CBE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03711-96C2-4372-B6FC-DC1179C511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E430FF-70A0-4E30-8E36-F13F253ECE1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64A53-E51E-41F9-92C9-3AA827BD0FB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3CD9B-DAB0-4BB7-9471-3AE99B538C5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2A540-ACC3-4536-B8A1-67588FEF99E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D551F-D812-49AE-B359-8CDEF319F56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1AA52-570A-4B94-8022-7AC7A8D78C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4AD6FA-F166-4F75-B765-053E33E6391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66495-3821-4803-8BBA-A132BE243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8E47-8F7A-4F7A-B7B2-43E739CCDBE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4849B-8A52-49EE-BD15-40BFFE7858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6DEC7-AB06-4534-8302-59B583540C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E9C60-E621-4C93-948D-F8AC45C88D4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D271-E5D0-4D02-AABC-87B779F45E2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1FA25-2270-4822-8238-6C4636DAD8F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32D7E-ED1E-494C-920D-C79CF6D5B48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E44D9-4640-4E47-967E-CE30BC8250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ADBDA-FB95-4609-B66E-1680DDF1EB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4A8E-AEA9-4B10-855E-FA9B78BD4F1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C2CC-1A1D-4B89-9AC7-EC1AE71CA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DE6A-F7E4-4F95-B4A4-2C69D3BFD0E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911D-A551-4D5D-BA59-7B8CF87B82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4CEA6-7B7F-4252-BAAE-9231A67E28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AEC45-DC84-47F1-A4EF-0BC19BD0749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F88C61-3C74-4FAB-B6CE-0DFDD31143F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4258B-6C2E-4D2C-A054-7F718F1F27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678F8-0725-4226-8B6B-93B1523FC1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6FC7F-A944-47E6-A09A-83324929E52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5E61FF-BB0C-49C9-8834-41A930F0DD0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BF7E7-0B8D-4ADB-AEB7-26F814F2AF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5DAC8-6031-4953-9164-5D2BA37A3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8DDF3-5F31-4938-9C4B-AAC7588945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4FD361-E644-49B9-A5E9-41B108195A8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B84B8-118D-4F68-A215-4D348C24EB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7690B-6ADC-4D21-B042-56029D94ED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A5C07-72E4-4FB7-B1D6-DF3B679E8AB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5C6A4-A1B3-49EA-9E4C-D525892453C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259804-A394-4509-B341-90661FA3A4B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0A3CAC-5CA2-4971-AF19-A1A016FA1A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C060B-5098-4329-BE63-63E761BF469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234E99-F1ED-45D4-BEC6-A12C8900412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97DB2C-80D3-42C9-9700-1FB51D100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46CD-E8E6-4C8C-8449-808F9E9C451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88E7A-34B2-462E-B22B-236317863B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E057F4-35C1-4917-BA58-FBC165F3B0F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420A98-22C8-4A09-A653-C9FADD21C52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CD1BFA-EBD4-4AB1-975D-FC8F81BEB42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366DBC-DB5E-4F0B-B351-20681D1E587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CCB0B2-DF01-4068-BE9C-DDFA29CAD0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B4AFBA-4611-4881-A7A3-6427D5BE693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F332E-588A-4E67-862B-CD50949008B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DA9D3-66DC-457F-B03F-8DBA0A169E9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67652-85FA-43A3-AEAA-D8DF5325A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3601-687A-4C41-94F3-96F8F28B048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F82C-5AED-4068-8041-916D6E5E846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E2BD-2231-4D2D-94C8-3B5B3AE9B70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DEF7-198F-4C12-BD3C-1E0602C8FFD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CBC4-208A-46E8-9EB8-B113BB7AF1C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9415-E600-4947-9C10-886FCCAF008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2FFC-1C68-4C93-AF2C-8F62E361669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CEDD-6818-406F-B091-8D2BCFA8343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AF2F-0E7B-48F4-9FC6-81B4A88503E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B709-1AB9-4EDE-A0D8-9184D346EB1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69E3-D17E-4CBF-87F4-201B2AD2ADB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1374-736A-4920-B9FE-E58E48C4D73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275C-CE61-41D2-9899-B068F7FD40D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pter 17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dvanced Uses of Poin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llocates memory for a string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n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character requires one byte of memory; adding 1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eaves room for the null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programmers prefer to ca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, although the cast is not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(char *) malloc(n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6414-1B55-49F0-9757-61C365C395D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tric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s that its parameters have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ut we can’t access the members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 throug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olve the proble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assign its parameter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o variabl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67CA-6A39-4691-882B-DCB0DC121A8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be used to sor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into ascending order by part nu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struct part *p1 =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struct part *q1 =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1-&gt;number &lt; q1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if (p1-&gt;number == q1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94AE-4ADC-46A5-A10F-576BFD270C1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C programmers would write the function more concis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(struct part *) p)-&gt;number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if (((struct part *) p)-&gt;number 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D949-5924-4276-929B-B220CAABD3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made even shorter by remov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((struct part *) p)-&gt;numbe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221B-6F3B-428E-8A70-5187AAC0B54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be used to sor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by part name instead of part nu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strcmp(((struct part *) p)-&gt;na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0CDB-399A-462D-BF81-6E6B3C76698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function pointers are often used as arguments, that’s not all they’re good f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treats pointers to functions just like pointer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can be stored in variables or used as elements of an array or as members of a structure or un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even possible for functions to return function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3A6D-586D-45A6-8249-751423D3A1A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ariable that can store a pointer to a function with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arameter and a return typ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(*pf)(int)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uch a function, we can ma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following w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f =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now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 writing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pf)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f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B736-3944-444C-A916-ACAEE5FBCF2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rray whose elements are function poin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(*file_cmd[])(void) = {new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lose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lose_all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as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all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_cm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69FB-EE25-4A3D-8751-8DD33D92AA2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the function stored in posi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c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file_cmd[n])()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cmd[n]()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get a similar effect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, but using an array of function pointers provides more flex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5939-2040-43AC-9DFF-49C9862AA54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prints tables showing the value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is built around a function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, when passed a function poi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prints a table showing the valu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s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e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an argu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e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smallest integer that’s greater than or equa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6EBD-0BA7-4F1B-91F0-3829EF0D9D9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mory allocat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cleared, s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an uninitialized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 charac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6A5A-756D-4A7C-A2BE-D5EBC2D8EB0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7" descr=""/>
          <p:cNvPicPr/>
          <p:nvPr/>
        </p:nvPicPr>
        <p:blipFill>
          <a:blip r:embed="rId1"/>
          <a:stretch/>
        </p:blipFill>
        <p:spPr>
          <a:xfrm>
            <a:off x="2411280" y="2986200"/>
            <a:ext cx="4243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ession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initial value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final value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increment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cos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1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99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980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955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921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877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E312-E8E4-4AED-901D-29B921881DE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sin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0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0998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1986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2955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3894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4794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tan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0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1003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202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309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422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546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7D33-EBB3-4B96-B8AF-8D42EE0702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Tabulates values of trigonometric function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math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tabulate(double (*f)(double), double fi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last, double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final, increment, initi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initial valu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initi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final valu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fin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increment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17E9-4DF6-4DAF-A3CF-CCCD2BE36E3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cos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cos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sin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sin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tan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tan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tabulate(double (*f)(double), double fi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last, double inc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, num_interva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intervals = ceil((last - first) /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= num_intervals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x = first + i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10.5f %10.5f\n", x, (*f)(x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526D-780A-445E-B26D-4DF005BB9EA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pic>
        <p:nvPicPr>
          <p:cNvPr id="966" name="Picture 2" descr=""/>
          <p:cNvPicPr/>
          <p:nvPr/>
        </p:nvPicPr>
        <p:blipFill>
          <a:blip r:embed="rId1"/>
          <a:stretch/>
        </p:blipFill>
        <p:spPr>
          <a:xfrm>
            <a:off x="1062000" y="1339920"/>
            <a:ext cx="1484280" cy="14587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" descr=""/>
          <p:cNvPicPr/>
          <p:nvPr/>
        </p:nvPicPr>
        <p:blipFill>
          <a:blip r:embed="rId2"/>
          <a:stretch/>
        </p:blipFill>
        <p:spPr>
          <a:xfrm>
            <a:off x="927000" y="2817720"/>
            <a:ext cx="7661520" cy="3402000"/>
          </a:xfrm>
          <a:prstGeom prst="rect">
            <a:avLst/>
          </a:prstGeom>
          <a:ln w="0">
            <a:noFill/>
          </a:ln>
        </p:spPr>
      </p:pic>
      <p:sp>
        <p:nvSpPr>
          <p:cNvPr id="968" name="投影片編號版面配置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AB27-FF35-4779-B92A-BF429B53F3F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6346800" cy="3888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2" descr=""/>
          <p:cNvPicPr/>
          <p:nvPr/>
        </p:nvPicPr>
        <p:blipFill>
          <a:blip r:embed="rId2"/>
          <a:stretch/>
        </p:blipFill>
        <p:spPr>
          <a:xfrm>
            <a:off x="971640" y="4653000"/>
            <a:ext cx="2543040" cy="1752480"/>
          </a:xfrm>
          <a:prstGeom prst="rect">
            <a:avLst/>
          </a:prstGeom>
          <a:ln w="0">
            <a:noFill/>
          </a:ln>
        </p:spPr>
      </p:pic>
      <p:sp>
        <p:nvSpPr>
          <p:cNvPr id="97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A984-1E06-4558-B1A8-085C7CA80B5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05600" cy="18003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7886520" cy="1352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5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7416720" cy="1657440"/>
          </a:xfrm>
          <a:prstGeom prst="rect">
            <a:avLst/>
          </a:prstGeom>
          <a:ln w="0">
            <a:noFill/>
          </a:ln>
        </p:spPr>
      </p:pic>
      <p:sp>
        <p:nvSpPr>
          <p:cNvPr id="975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954E-FBDC-4F5F-AA15-20F729D103D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rrays of Pointers to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pic>
        <p:nvPicPr>
          <p:cNvPr id="977" name="Picture 2" descr=""/>
          <p:cNvPicPr/>
          <p:nvPr/>
        </p:nvPicPr>
        <p:blipFill>
          <a:blip r:embed="rId1"/>
          <a:stretch/>
        </p:blipFill>
        <p:spPr>
          <a:xfrm>
            <a:off x="741240" y="1268280"/>
            <a:ext cx="7661520" cy="4857840"/>
          </a:xfrm>
          <a:prstGeom prst="rect">
            <a:avLst/>
          </a:prstGeom>
          <a:ln w="0">
            <a:noFill/>
          </a:ln>
        </p:spPr>
      </p:pic>
      <p:sp>
        <p:nvSpPr>
          <p:cNvPr id="978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C59E-23B9-48FB-8B46-AA4D3A9D01B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647640" y="81000"/>
            <a:ext cx="7848720" cy="6696000"/>
          </a:xfrm>
          <a:prstGeom prst="rect">
            <a:avLst/>
          </a:prstGeom>
          <a:ln w="0">
            <a:noFill/>
          </a:ln>
        </p:spPr>
      </p:pic>
      <p:sp>
        <p:nvSpPr>
          <p:cNvPr id="980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DBF2-CDE8-408E-B240-8BB205FCB9E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540920" cy="4321080"/>
          </a:xfrm>
          <a:prstGeom prst="rect">
            <a:avLst/>
          </a:prstGeom>
          <a:ln w="0">
            <a:noFill/>
          </a:ln>
        </p:spPr>
      </p:pic>
      <p:sp>
        <p:nvSpPr>
          <p:cNvPr id="982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DE66-1C0E-4031-98C6-7EFA33CE14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one way to initialize this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p, "ab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rst four characters in the array will now b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\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4E1D-4F2F-44AE-BACF-B913C73A49F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1"/>
          <a:stretch/>
        </p:blipFill>
        <p:spPr>
          <a:xfrm>
            <a:off x="2424240" y="3538440"/>
            <a:ext cx="42307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329440" cy="3503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2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6769080" cy="2643120"/>
          </a:xfrm>
          <a:prstGeom prst="rect">
            <a:avLst/>
          </a:prstGeom>
          <a:ln w="0">
            <a:noFill/>
          </a:ln>
        </p:spPr>
      </p:pic>
      <p:sp>
        <p:nvSpPr>
          <p:cNvPr id="985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A09E-A4AF-4AC0-96EF-F0F38A587AF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the key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appear in the declaration of a poi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aid to b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tricted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tent is that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an object that is later modified, then that object is not accessed in any way other than thr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ing more than one way to access an object is often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ia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3D66-1D00-48EB-96BB-76C222786A8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following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rmally it would be legal to cop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then modify the integer thr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 = 0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us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ndefin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restricted pointer, the effect of executing the state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n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0210-FF84-4C44-9155-5CD33910075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illustrate 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conside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99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copies bytes from one object (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another (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cpy(void * restrict s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void * restrict 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that the objects to which they point shouldn’t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0330-5EB8-4BD6-85FD-19807DCADA9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ontrast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appear in the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move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imilar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ut is guaranteed to work even if the source and destination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 of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hift the elements of an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a[10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(&amp;a[0], &amp;a[1], 99 *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E782-C660-4E71-AD4B-7B1769386E1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or to C99, there was no way to document the difference betwe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totypes for the two functions were nearly identic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cpy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move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C99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prototype is a warning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bjects should not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F3DC-0524-4559-BCE9-8AC9ACC913A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information to the compiler that may enable it to produce more efficient code—a proces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tim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99 standard guarantee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no effect on the behavior of a program that conforms to the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programmers won’t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nless they’re fine-tuning a program to achieve the best possible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21DF-BF9C-41C8-828F-952587526E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casionally, we’ll need to define a structure that contains an array of an unknown siz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xample, we might want a structure that stores the characters in a string together with the string’s length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a fixed-length array is undesirable: it limits the length of the string and wastes memo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DF66-7A7F-46C9-AF35-00FF7335CB8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programmers traditionally solve this problem by declaring the length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1 and then dynamically allocating each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1]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*str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vstring) + n - 1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-&gt;len = n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technique is known as the “struct hack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B2EB-6D05-47A0-93C0-B8B2CE611E2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uct hack is supported by many compi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(including GCC) even allow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to have zero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89 standard doesn’t guarantee that the struct hack will work, but a C99 feature known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exible array me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rves the same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3EAF-F754-42EE-B017-F64B8781280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makes it possible to write functions that return a pointer to a “new”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problem of writing a function that concatenates two strings without changing either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 will measure the lengths of the two strings to be concatenated, then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the right amount of space for the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A413-191E-4B53-B2B6-57730667459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ast member of a structure is an array, its length may be omitt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]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lexibl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rray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ber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99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only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ngth of the array isn’t determined until memory is allocated for a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v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*str =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vstring) + n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-&gt;len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gnores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when computing the size of the stru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CB58-300B-4080-ADC2-F35F9D7C127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rules for structures that contain a flexible array 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lexible array must be the last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ucture must have at least one other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pying a structure that contains a flexible array member will copy the other members but not the flexible array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D718-2B8B-483E-A28A-04FC6CEFF1F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tructure that contains a flexible array member is an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omplete typ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complete type is missing part of the information needed to determine how much memory it requir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omplete types are subject to various restric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an incomplete type can’t be a member of another structure or an element of an arra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an array may contain pointers to structures that have a flexible array memb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168B-965E-4B61-B896-B3D797B398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concat(const char *s1, const char *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resu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trlen(s1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len(s2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result == NULL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\n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result, s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at(result, s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D039-24C5-463E-A3EC-7BC8073AD84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concat("abc", "de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call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cdef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stored in a dynamically allocated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A54E-720F-4775-80A9-FEF326EC2A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dynamically allocate storage must be used with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string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is no longer needed, we’ll want to call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lease the space that the string occup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don’t, the program may eventually run out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FD1C-B89C-4F81-B65F-819A092759B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Printing a One-Month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minder List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is based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of Chapter 13, which prints a one-month list of daily remin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rigi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stores reminder strings in a two-dimensional array of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new program, the array will be one-dimensional; its elements will be pointers to dynamically allocated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D9BD-D06A-4141-9098-72C43F90004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Printing a One-Month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minder List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 of switching to dynamically allocated str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s space more efficiently by allocating the exact number of characters needed to store a rem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oids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existing reminder strings in order to make room for a new rem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witching from a two-dimensional array to an array of pointers requires changing only eight lines of the program (shown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F0D2-5B96-49C9-B167-610D72DF0B9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2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Prints a one-month reminder list (dynamic string versio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AX_REMIND 50   /* maximum number of reminder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SG_LEN 60      /* max length of reminder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read_line(char str[], int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reminders[MAX_REMI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day_str[3], msg_str[MSG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day, i, j, num_remin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B65F-3F02-4DE5-A6D5-16C4A0C7DF7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 Storage Alloca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’s data structures, including arrays, are normally fixed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xed-size data structures can be a problem, since we’re forced to choose their sizes when writing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tunately, C suppor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ability to allocate storage during pro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dynamic storage allocation, we can design data structures that grow (and shrink)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9702-25F2-4C96-B463-16017C06A7B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um_remind == MAX_REMIN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-- No space left 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day and remind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2d", &amp;d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day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(day_str, "%2d", d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(msg_str, MSG_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remind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strcmp(day_str, reminders[i]) &l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j = num_remind; j &gt; i; j-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ers[j] = reminders[j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4EC4-4C94-494F-81B7-9074298FDAF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ers[i] = malloc(2 + strlen(msg_str) +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reminders[i]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-- No space left 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reminders[i], day_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at(reminders[i], msg_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remind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Day Reminder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remind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 %s\n", reminders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4E85-C8AA-4316-9455-2BB65169BF7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read_line(char str[]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h,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har()) != '\n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i &lt;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[i++] =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[i] = '\0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4AA7-8223-49B2-9837-DD918C34948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ally Allocated Array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ally allocated arrays have the same advantages as dynamically allocated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lose relationship between arrays and pointers makes a dynamically allocated array as easy to use as an ordinary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allocate space for an array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sometimes used instead, since it initializes the memory that it allo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llows us to make an array “grow” or “shrink”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BFAD-79E3-44E4-9715-E2BD9BF814C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Storage for an Array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se a program needs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egers, 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mputed during pro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first declare a pointer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known, the program can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space for the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 = malloc(n *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to calculate the amount of space required for each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FCA5-6AF3-4BBC-A4BD-7FF26C92388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Storage for an Array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now ignore the fact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and use it instead as an array name, thanks to the relationship between arrays and pointers in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xample, we could use the following loop to initialize the array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[i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also have the option of using pointer arithmetic instead of subscripting to access the elements of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2033-B03F-4D80-A83D-9C186005E4C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c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an alternativ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calloc(size_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memb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perti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es space for an array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mem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lements, each of which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s a null pointer if the requested space isn’t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izes allocated memory by setting all bits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3647-C884-45AC-8596-91188D09345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c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llocates space for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eg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 = calloc(n,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 as its first argument, we can allocate space for a data item of any 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oint { int x, y; }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calloc(1, sizeof(struct po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BE4F-4A17-44BF-BBF0-2C69023CDEF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can resize a dynamically allocated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realloc(void *ptr, 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point to a memory block obtained by a previous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presents the new size of the block, which may be larger or smaller than the original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97F7-13B6-4006-B1FA-6CB574B4892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perti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it expands a memory block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initialize the bytes that are added to th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’t enlarge the memory block as requested, it returns a null pointer; the data in the old memory block is un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 with a null pointer as its first argument, it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 with 0 as its second argument, it frees the memory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6719-BB39-4386-B3A4-4DF299BCC77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 Storage Alloca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used most often for strings, arrays, and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ally allocated structures can be linked together to form lists, trees, and other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done by calling a memory allocati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2741-6FF1-413D-BE85-DBA5BEE2C0C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expect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reasonably efficien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sked to reduce the size of a memory block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shrink the block “in place.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always attempt to expand a memory block without moving i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can’t enlarge a block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allocate a new block elsewhere, then copy the contents of the old block into the new o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returned, be sure to update all pointers to the memory block in case it has been mov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4F9F-E16D-435E-BBB8-61C62BBB412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the other memory allocation functions obtain memory blocks from a storage pool known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these functions too often—or asking them for large blocks of memory—can exhaust the heap, causing the functions to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make matters worse, a program may allocate blocks of memory and then lose track of them, thereby wasting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F35E-D58E-4C5B-B901-B2A3AB8D09C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…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q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napshot after the first two statements have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0A5A-C3CA-4F2F-93B6-E3A6225E1E2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6" descr=""/>
          <p:cNvPicPr/>
          <p:nvPr/>
        </p:nvPicPr>
        <p:blipFill>
          <a:blip r:embed="rId1"/>
          <a:stretch/>
        </p:blipFill>
        <p:spPr>
          <a:xfrm>
            <a:off x="3276720" y="4243320"/>
            <a:ext cx="246996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ssigned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oth variables now point to the second memo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no pointers to the first block, so we’ll never be able to use i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1FF8-7694-4B69-8A68-6F4FC47988D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6" descr=""/>
          <p:cNvPicPr/>
          <p:nvPr/>
        </p:nvPicPr>
        <p:blipFill>
          <a:blip r:embed="rId1"/>
          <a:stretch/>
        </p:blipFill>
        <p:spPr>
          <a:xfrm>
            <a:off x="3282840" y="2541600"/>
            <a:ext cx="25084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lock of memory that’s no longer accessible to a program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b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rogram that leaves garbage behind ha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mory l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languages provid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bage coll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utomatically locates and recycles garbage, but C does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, each C program is responsible for recycling its own garbage by call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lease unneeded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AD10-A5CE-4C72-8B04-D18DE8D88F2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free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free(void *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passed a pointer to an unneeded memo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leases the block of memory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84F4-11F0-4424-8826-7DEB41B4F69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“Dangling Pointer” Proble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eads to a new problem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ngling poin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eallocates the memory block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, but doesn’t chang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forget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 longer points to a valid memory block, chaos may ens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p = malloc(4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p, "abc");   /*** WRONG **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ying the memory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is a serious err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8537-F392-4751-A6EE-622FBBA85EA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“Dangling Pointer” Proble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ngling pointers can be hard to spot, since several pointers may point to the same block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block is freed, all the pointers are left dang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D4BA-079B-4F1B-82B2-7AF71D73166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k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especially useful for building lists, trees, graphs, and other linked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ked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sists of a chain of structures (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with each node containing a pointer to the next node in the ch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ast node in the list contai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3A7A-892E-489F-AD2E-37858D9A82B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6" descr=""/>
          <p:cNvPicPr/>
          <p:nvPr/>
        </p:nvPicPr>
        <p:blipFill>
          <a:blip r:embed="rId1"/>
          <a:stretch/>
        </p:blipFill>
        <p:spPr>
          <a:xfrm>
            <a:off x="2286000" y="4425840"/>
            <a:ext cx="448164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k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inked list is more flexible than an array: we can easily insert and delete nodes in a linked list, allowing the list to grow and shrink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the other hand, we lose the “random access” capability of an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element of an array can be accessed in the same amount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node in a linked list is fast if the node is close to the beginning of the list, slow if it’s near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840E-7313-4947-B86E-9E1F8A68329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emory Allocation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 declares three memory allocation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Allocates a block of memory but doesn’t initializ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Allocates a block of memory and clear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Resizes a previously allocated block of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return a value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a “generic”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2CC4-2EA5-4415-B5B1-0A4DF554124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claring a Node Typ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et up a linked list, we’ll need a structure that represents a single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ode structure will contain data (an integer in this example) plus a pointer to the nex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alue;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or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nex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oin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a tag, 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ame, or there would be no way to declare the typ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B267-8018-4D0F-9F54-DD89732E16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claring a Node Typ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need a variable that always points to the firs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firs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that the list is initially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D717-21A8-48D3-B209-BEBA96ABDA8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we construct a linked list, we’ll create nodes one by one, adding each 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s involved in creating a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e memory for the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ore data in the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ert the node into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concentrate on the first two steps for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07EA-5D00-494A-BD0B-71B491DC4FA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reate a node, we’ll need a variable that can point to the node temporari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memory for the new node, saving the return valu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w points to a block of memory just large enough to hol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F6A4-06EE-44B5-9E36-386D89398A2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6" descr=""/>
          <p:cNvPicPr/>
          <p:nvPr/>
        </p:nvPicPr>
        <p:blipFill>
          <a:blip r:embed="rId1"/>
          <a:stretch/>
        </p:blipFill>
        <p:spPr>
          <a:xfrm>
            <a:off x="2857680" y="5291280"/>
            <a:ext cx="336384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store data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of the new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new_node).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sulting pi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arentheses aro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mandatory beca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would otherwise take precedence ove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63E9-97C3-4CD3-8BDB-66B3E3BD9EC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6" descr=""/>
          <p:cNvPicPr/>
          <p:nvPr/>
        </p:nvPicPr>
        <p:blipFill>
          <a:blip r:embed="rId1"/>
          <a:stretch/>
        </p:blipFill>
        <p:spPr>
          <a:xfrm>
            <a:off x="2846520" y="3576600"/>
            <a:ext cx="33638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-&gt;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Operator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member of a structure using a pointer is so common that C provides a special operator for this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operator,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ght arrow selectio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inus sign follow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, we can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new_node).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550B-1EBA-48CF-936E-030CB95A92B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-&gt;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Operator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produces an lvalue, so we can use it wherever an ordinary variable would be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val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is still required, even th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EB10-396E-4856-AF69-54ECA31DF8B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 advantages of a linked list is that nodes can be added at any point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 beginning of a list is the easiest place to insert a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s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the node to be inserted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the first node in the linked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CE65-6587-4F51-8068-481F7E9013F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takes two statements to insert the node in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rst step is to modify the new node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to point to the node that was previously at the beginning of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ond step is to ma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the new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statements work even if the list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8D38-DE06-438C-83F9-F67CE06CB81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t’s trace the process of inserting two nodes into an empty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insert a node containing the number 10 first, followed by a node containing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9062-89D4-4749-B882-D224327C096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memory allocation function can’t locate a memory block of the requested size, it return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ull pointer is a special value that can be distinguished from all valid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we’ve stored the function’s return value in a pointer variable, we must test to see if it’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86A5-BF7F-4853-BE80-D8B4D266769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node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tretch/>
        </p:blipFill>
        <p:spPr>
          <a:xfrm>
            <a:off x="4708440" y="3352680"/>
            <a:ext cx="3686400" cy="12636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D9FE-CA81-48A4-A3CB-D1DDAA65AD6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4699080" y="1676520"/>
            <a:ext cx="1365120" cy="12398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9" descr=""/>
          <p:cNvPicPr/>
          <p:nvPr/>
        </p:nvPicPr>
        <p:blipFill>
          <a:blip r:embed="rId3"/>
          <a:stretch/>
        </p:blipFill>
        <p:spPr>
          <a:xfrm>
            <a:off x="4695840" y="4952880"/>
            <a:ext cx="3686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node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9" descr=""/>
          <p:cNvPicPr/>
          <p:nvPr/>
        </p:nvPicPr>
        <p:blipFill>
          <a:blip r:embed="rId1"/>
          <a:stretch/>
        </p:blipFill>
        <p:spPr>
          <a:xfrm>
            <a:off x="4687920" y="4956120"/>
            <a:ext cx="3701880" cy="12225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0522-5EB2-4563-A651-F58AD1FFBF4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6" descr=""/>
          <p:cNvPicPr/>
          <p:nvPr/>
        </p:nvPicPr>
        <p:blipFill>
          <a:blip r:embed="rId2"/>
          <a:stretch/>
        </p:blipFill>
        <p:spPr>
          <a:xfrm>
            <a:off x="4686480" y="1685880"/>
            <a:ext cx="3708360" cy="12286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"/>
          <p:cNvPicPr/>
          <p:nvPr/>
        </p:nvPicPr>
        <p:blipFill>
          <a:blip r:embed="rId3"/>
          <a:stretch/>
        </p:blipFill>
        <p:spPr>
          <a:xfrm>
            <a:off x="4726080" y="3368520"/>
            <a:ext cx="36795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6A2E-1691-430F-A044-5F2AC9339A6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Picture 6" descr=""/>
          <p:cNvPicPr/>
          <p:nvPr/>
        </p:nvPicPr>
        <p:blipFill>
          <a:blip r:embed="rId1"/>
          <a:stretch/>
        </p:blipFill>
        <p:spPr>
          <a:xfrm>
            <a:off x="4700520" y="1685880"/>
            <a:ext cx="3679920" cy="12225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4726080" y="3343320"/>
            <a:ext cx="3668760" cy="12747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"/>
          <p:cNvPicPr/>
          <p:nvPr/>
        </p:nvPicPr>
        <p:blipFill>
          <a:blip r:embed="rId3"/>
          <a:stretch/>
        </p:blipFill>
        <p:spPr>
          <a:xfrm>
            <a:off x="4713120" y="4940280"/>
            <a:ext cx="36687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that inserts a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a linked list, which 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add_to_list(struct node 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BE20-CB44-4084-A86C-7E2B710BD13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pointer to the newly created node (now at the beginning of the li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’ll need to store its return value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t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upda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rectly, rather than return a new valu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urns out to be tric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E874-2351-4844-906B-486D9C749C1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that use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reate a linked list containing numbers entered by the us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read_numbers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firs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ri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er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(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erminate)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s will be in reverse order within the li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715D-5096-44D2-8A31-580F4931CA7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op can be used to search a list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 is often sup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visits the nodes in a linked list, using a pointer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keep track of the “current”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first; p != NULL; p = p-&gt;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of this form can be used in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hat searches a list for an integ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6EA3-0A12-4623-9C69-3D4F93A37A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ind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function will return a pointer to the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otherwise, it will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itial version of the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list; p != NULL; p = p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-&gt;value =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E299-1C42-4A5E-A3B8-4448AA05EF8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many other ways to writ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search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alternative is to eliminate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, instead u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 to keep track of the current nod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 list != NULL; list = list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list-&gt;value =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copy of the original list pointer, there’s no harm in changing it within the fun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030A-C117-4C64-AC5C-81125DD94EB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other alterna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 list != NULL &amp;&amp; list-&gt;value !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lis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we reach the end of the list,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rrect even if we don’t fi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5981-9CC3-4E78-939A-53324BBE06E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of tes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10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== NUL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lloca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ak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ppropriat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c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(defined in various library headers) that represents the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programmers combine the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p = malloc(10000)) == NUL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lloca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ak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ppropriat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c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CF48-8532-4E24-A715-6A615AEBCC9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arch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ight be a bit clearer if we use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list != NULL &amp;&amp; list-&gt;value !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F0D6-9288-49AC-A91E-B8C34E2AB2F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ig advantage of storing data in a linked list is that we can easily delete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leting a node involves three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cate the node to be del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lnSpc>
                <a:spcPts val="2699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er the previous node so that it “bypasses” the deleted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lnSpc>
                <a:spcPts val="2699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claim the space occupied by the deleted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 1 is harder than it looks, because step 2 requires chang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various solutions to this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5826-2A85-4A59-BD33-E0E70FD8F29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“trailing pointer” technique involves keeping a pointer to the previous node (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s well as a pointer to the current node (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list to be searched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integer to be dele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implements step 1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list, prev = NUL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cur-&gt;value !=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oop terminates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node to be deleted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previous n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AD75-08DA-46DF-8C0A-55F6903F107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llowing appearance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2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2874-13FF-4020-9181-F6F3F8162E2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6" descr=""/>
          <p:cNvPicPr/>
          <p:nvPr/>
        </p:nvPicPr>
        <p:blipFill>
          <a:blip r:embed="rId1"/>
          <a:stretch/>
        </p:blipFill>
        <p:spPr>
          <a:xfrm>
            <a:off x="1106640" y="2538360"/>
            <a:ext cx="7107120" cy="5857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6" descr=""/>
          <p:cNvPicPr/>
          <p:nvPr/>
        </p:nvPicPr>
        <p:blipFill>
          <a:blip r:embed="rId2"/>
          <a:stretch/>
        </p:blipFill>
        <p:spPr>
          <a:xfrm>
            <a:off x="1104840" y="4255920"/>
            <a:ext cx="714384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rue, 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a node and the node doesn’t contain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9223-15A0-4F7F-AFAC-4AF0630327E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1106640" y="3914640"/>
            <a:ext cx="7115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gain true, s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xecuted once mor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w points to the node containing 20, the condi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false and the loop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74B5-D16D-46CE-AAB3-BE52FD998E6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6" descr=""/>
          <p:cNvPicPr/>
          <p:nvPr/>
        </p:nvPicPr>
        <p:blipFill>
          <a:blip r:embed="rId1"/>
          <a:stretch/>
        </p:blipFill>
        <p:spPr>
          <a:xfrm>
            <a:off x="1106640" y="3014640"/>
            <a:ext cx="7092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perform the bypass required by step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cur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kes the pointer in the previous node point to the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current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30CE-3C67-4850-9466-740DC87C05C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" descr=""/>
          <p:cNvPicPr/>
          <p:nvPr/>
        </p:nvPicPr>
        <p:blipFill>
          <a:blip r:embed="rId1"/>
          <a:stretch/>
        </p:blipFill>
        <p:spPr>
          <a:xfrm>
            <a:off x="939960" y="4052880"/>
            <a:ext cx="71643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 3 is to release the memory occupied by the current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cu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8A32-3819-4334-BB48-7C403CD1D03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lete_from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uses the strategy just outl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a list and an integ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function deletes the first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o node contai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lete_from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 n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either case, the function returns a pointer 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leting the first node in the list is a special case that requires a different bypass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0C82-5450-4BCE-BFC7-BA05FB09AA2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6858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delete_from_list(struct node *list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cur, *pre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list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cur-&gt;value !=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cur ==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             /* n was not fou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rev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;       /* n is in the first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cur-&gt;next;  /* n is in some other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cu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264D-1037-477F-BBA9-DD4C7CECE58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s test true or false in the same way as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non-null pointers test true; only null pointers are fal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 wri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=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wr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!p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 wri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wr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3993-8DFB-41C8-B20A-4E9A9B3020F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rder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nodes of a list are kept in order—sorted by the data stored inside the nodes—we say that the list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erting a node into an ordered list is more difficult, because the node won’t always be put at the beginning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searching is faster: we can stop looking after reaching the point at which the desired node would have been 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1569-49B1-425C-A16C-72DC5BBF216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is a modification of the parts database program of Chapter 16, with the database stored in a linked list this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 of using a link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need to put a limit on the size of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base can easily be kept sorted by part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original program, the database wasn’t s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BA27-6C51-4F59-8E74-B0A8AE767E2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 will contain an additional member (a pointer to the next nod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the firs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inventory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E5CC-BCCB-48F3-9B9A-23FB7541FB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f the functions in the new program will closely resemble their counterparts in the original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more complex, however, since we’ll keep the nodes in the inventory list sorted by part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8AB2-7DB2-4788-B9E4-780D73B2354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original progr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n index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new progr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turn a pointer to the node that contains the desired part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doesn’t find the part numb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0D25-81E6-4F82-85A7-6221C57702A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the list of parts is sorted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stop when it finds a node containing a part number that’s greater than or equal to the desired part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arch 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 != NULL &amp;&amp; number &gt; p-&gt;numbe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p-&gt;n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oop terminates, we’ll need to test whether the part was foun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 &amp;&amp; number == p-&gt;numb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410F-D75B-4B04-B245-E7CFCBF1DFE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rigin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a new part in the next available array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w version must determine where the new part belongs in the list and insert it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will also check whether the part number is already present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accomplishes both tas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inventory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new_node-&gt;number &gt; cur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A54A-AB76-4BBF-980E-D58FD6834C0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loop terminate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check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qual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both are true, the part number is already in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insert a new node between the nodes pointed to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strategy works even if the new part number is larger than any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ke the original program, this version requir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of Chapter 1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EE1A-8407-4B3F-8EC2-E847EC7E66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384120" y="761760"/>
            <a:ext cx="84549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2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Maintains a parts database (linked list versio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"readline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NAME_LEN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inventory = NULL;   /* points to first pa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find_part(int 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insert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search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update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int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367B-5439-400D-937D-F36D9D5D52D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main: Prompts the user to enter an operation code,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then calls a function to perform the requested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action. Repeats until the user enters the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command 'q'. Prints an error message if the user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enters an illegal code.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operation cod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 %c", &amp;co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getchar() != '\n')   /* skips to end of lin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0A9F-7F47-4FA5-A8A1-6095B5EAF53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ally Allocated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often useful for working with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s are stored in character arrays, and it can be hard to anticipate how long these arrays need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allocating strings dynamically, we can postpone the decision until the program is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261E-1316-434C-8347-A3D21A74750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witch (cod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i': inser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s': search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u': updat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p': print(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q': 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fault:  printf("Illegal cod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3371-224A-4F09-980C-66A35D87EDC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find_part: Looks up a part number in the inventory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list. Returns a pointer to the node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containing the part number; if the part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number is not found, returns NULL.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find_part(int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!= NULL &amp;&amp; number &gt; p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p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 &amp;&amp; number == p-&gt;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D71B-E965-4D1D-A82C-79495F01225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insert: Prompts the user for information about a new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art and then inserts the part into the    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inventory list; the list remains sorted by 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art number. Prints an error message and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returns prematurely if the part already exists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or space could not be allocated for the part.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insert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cur, *prev, *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par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Database is full; can't add more parts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C5D0-8B8D-4424-B23C-3BCA4BDDAD1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inventory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new_node-&gt;number &gt; cur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cur != NULL &amp;&amp; new_node-&gt;number == cur-&gt;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already exists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new_no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am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(new_node-&gt;name, NAME_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quantity on hand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cu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rev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6F79-C0AD-45B6-B2B2-EE3341482D6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search: Prompts the user to enter a part number, then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looks up the part in the database. If the part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exists, prints the name and quantity on hand;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if not, prints an error message.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search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find_part(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ame: %s\n", p-&gt;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Quantity on hand: %d\n", p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ot found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D313-E8B5-4E44-BB02-F183C785531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update: Prompts the user to enter a part number.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rints an error message if the part doesn't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exist; otherwise, prompts the user to enter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change in quantity on hand and updates the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database.            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update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, chan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find_part(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change in quantity on hand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chan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-&gt;on_hand += chan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ot found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048B-0E62-4DE0-970F-B9E79496560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print: Prints a listing of all parts in the database,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showing the part number, part name, and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quantity on hand. Part numbers will appear in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ascending order.      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int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umber   Part Name                 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Quantity on Han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 p != NULL; p = p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7d       %-25s%11d\n", p-&gt;number, p-&gt;na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87F-DF29-402E-9D86-C03F5E2A190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pter 13 introduced the idea of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ncept of “pointers to pointers” also pops up frequently in the context of linked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when an argument to a function is a pointer variable, we may want the function to be able to modify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ing so requires the use of a pointer to a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1388-7EA9-458C-9A49-74162436BA8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685800" y="1523520"/>
            <a:ext cx="7835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passed a pointer to the first node in a list; it returns a pointer to the first node in the updat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add_to_list(struct node 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965A-56BD-4848-8C9A-CD138B2B178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y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o that it assig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(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the point of the call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pied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function changes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making it point to the new nod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ot aff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E32A-C655-4B89-A4EB-A4E72513890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29920" y="76176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locates a block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and returns a pointer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unsigned integer type defined in the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ACBF-EC02-48C4-820A-D56947E4D68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tt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dif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s pas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add_to_list(struct node *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*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 =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33BE-9B49-4B6C-95B3-414CAC97C1A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new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, the first argument will be the addre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(&amp;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ssigned the addre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n alia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assig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modif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02DE-C094-43F2-8E64-8911C243094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doesn’t require that pointers point only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’s also possible to have pointer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occupy memory locations, so every function has an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use function pointers in much the same way we use pointer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ng a function pointer as an argument is fairly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6E5B-CB42-4431-9E8E-570E1A67096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Pointers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name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integrates a mathematical functio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made as general as possible by pas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n argu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integrate(double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(*f)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a, double b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arentheses arou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*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 that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to a fun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lternative prototyp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integrate(double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a, double b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EB53-D2AF-459A-8E3A-32403DCE5BF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Pointers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integrat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sine) function from 0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ult = integrate(sin, 0.0, PI / 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unction name isn’t followed by parentheses, the C compiler produces a pointer to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in the bod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 can call the function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y = (*f)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(*f)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914B-7A42-4BFC-A42A-61B95F69DF9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685800" y="761760"/>
            <a:ext cx="80265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incr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 (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)(double),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,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x, sum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, num_interva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intervals = ceil((b - a) /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= num_intervals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x = a + i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um += f(x)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11DF-E699-4AC6-8B23-E63A2C0DA40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of the most useful functions in the C library require a function pointer as an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se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belongs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general-purpose sorting function that’s capable of sorting any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71DB-B48C-4A03-8AF5-E9C42CB281E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told how to determine which of two array elements is “small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done by pas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pointer to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is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two pointer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rray elements, the comparison function must return an integer tha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less than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equal to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greater than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A7D9-FB6C-4F31-8059-94EA1ACC96E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8"/>
          <p:cNvSpPr/>
          <p:nvPr/>
        </p:nvSpPr>
        <p:spPr>
          <a:xfrm>
            <a:off x="6507000" y="2079720"/>
            <a:ext cx="171000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9"/>
          <p:cNvSpPr/>
          <p:nvPr/>
        </p:nvSpPr>
        <p:spPr>
          <a:xfrm>
            <a:off x="4481640" y="2079720"/>
            <a:ext cx="184608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10"/>
          <p:cNvSpPr/>
          <p:nvPr/>
        </p:nvSpPr>
        <p:spPr>
          <a:xfrm>
            <a:off x="2771640" y="2079720"/>
            <a:ext cx="148608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7"/>
          <p:cNvSpPr/>
          <p:nvPr/>
        </p:nvSpPr>
        <p:spPr>
          <a:xfrm>
            <a:off x="1371600" y="2394000"/>
            <a:ext cx="6324480" cy="30492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(voi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nmemb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(*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comp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(const void *, const void *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point to the first element in the array (or the first element in the portion to be sor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nme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umber of elements to be s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size of each array element, measured in by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comp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to the comparis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1ADC-F6C1-4B1A-B964-20B78B6B892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, it sorts the array into ascending order, calling the comparison function whenever it needs to compare array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sor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of Chapter 1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(inventory, num_part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struct part), compare_part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function that compares tw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4CD4-E207-4D7D-8E47-70C74CCFE36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39:05Z</dcterms:created>
  <dc:creator>K. N. King</dc:creator>
  <dc:description/>
  <dc:language>en-US</dc:language>
  <cp:lastModifiedBy>YKCHANG</cp:lastModifiedBy>
  <cp:lastPrinted>1999-11-08T20:52:53Z</cp:lastPrinted>
  <dcterms:modified xsi:type="dcterms:W3CDTF">2013-01-06T13:03:25Z</dcterms:modified>
  <cp:revision>1070</cp:revision>
  <dc:subject/>
  <dc:title>No Slide Title</dc:title>
</cp:coreProperties>
</file>